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8D4BA-7399-4AA1-9F6D-08C6F4BF2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6093-4D00-41F9-9BD1-182FF5A7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5C84D-4710-4120-9DBD-A6EE51B85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753F0-9ABD-4003-9C54-6FA0BC92C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20757A-763C-44D4-88B2-A47FC59201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5180C-4815-413D-849B-92A06DD9F6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1EC4E-EF31-44B0-BE7F-B330F2948D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07473-1233-4A09-9D9A-D307790CAF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DF4DD7-E621-48E1-A48D-7D5CF1CB57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D6F83D-A968-4016-8ACB-DEECF4C271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3E624-16DB-4DB7-B14C-A660F4CE7E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6EC7-DA14-44E1-8A6D-90ECBE0EE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DD37A-437E-46F3-8C7D-EAD65066C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027D5-A57C-43CF-8FD4-CAAEB7D757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3B75A-E4DC-4BA6-91BA-45DA0AD5A5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7E9BC8-2DCC-4030-9331-77CFE3A5E4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294C55-BDD7-4E6E-941F-5A4C3427FC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14965-B0B0-4443-99E1-933F5703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A38D-9E69-4A2E-A282-DAB9C7375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F36B-06BB-40E5-AEA4-54B21F18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F53F-BBEC-4C85-A52E-A0D2E19F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094F-7310-4D0B-B104-A130104B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A176-6644-4E89-938A-D8B1C98E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A3BF-3186-4B78-9935-069F878AE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32E4-6C01-43F7-87FD-5D38C61002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B804-34C0-4923-9A0F-4C4EEDF1802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slandexpeditions.com/index2.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rPr>
              <a:t>Ch</a:t>
            </a:r>
            <a:r>
              <a:rPr b="0" lang="en-US" sz="1600" spc="-1" strike="noStrike">
                <a:solidFill>
                  <a:srgbClr val="ffffff"/>
                </a:solidFill>
                <a:latin typeface="MS Reference Sans Serif"/>
                <a:ea typeface="Arial"/>
              </a:rPr>
              <a:t>è</a:t>
            </a:r>
            <a:r>
              <a:rPr b="0" lang="en-US" sz="1600" spc="-1" strike="noStrike">
                <a:solidFill>
                  <a:srgbClr val="ffffff"/>
                </a:solidFill>
                <a:latin typeface="MS Reference Sans Serif"/>
              </a:rPr>
              <a:t>re mama,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rPr>
              <a:t>Guadeloupe est tr</a:t>
            </a:r>
            <a:r>
              <a:rPr b="0" lang="en-US" sz="1600" spc="-1" strike="noStrike">
                <a:solidFill>
                  <a:srgbClr val="ffffff"/>
                </a:solidFill>
                <a:latin typeface="MS Reference Sans Serif"/>
                <a:ea typeface="Arial"/>
              </a:rPr>
              <a:t>ès fantastique et pacifique! Mon hÔtel est Ti’ Figues. La suberbe plage s’appelle Calleè. La plage est 50 mèttres du bungalow. Aujourd’hui, j’ai pris un leÇon du serf. J’ai ètè trèes mauvais. Le mopniteur est beau. J’ai visitè le Jardin Botanique de Deshaines. Le jardin est très colorè. J’ai mangè la cuisine crèole Chez Louiouse. Au restaurant, j’ai vu Spencer. Je n’ai jamais vu lexi, demain je voir Lexi! Je n’ai jamais vu Grande Clu de Sac Marin.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ea typeface="Arial"/>
              </a:rPr>
              <a:t>Gros Bises,</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MS Reference Sans Serif"/>
                <a:ea typeface="Arial"/>
              </a:rPr>
              <a:t>Dalia&lt;3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4" name="Picture 5" descr="GuadeloupeSteAnneG13Mod"/>
          <p:cNvPicPr/>
          <p:nvPr/>
        </p:nvPicPr>
        <p:blipFill>
          <a:blip r:embed="rId1"/>
          <a:stretch/>
        </p:blipFill>
        <p:spPr>
          <a:xfrm>
            <a:off x="2133720" y="152280"/>
            <a:ext cx="472428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09120" y="3276720"/>
            <a:ext cx="8077320" cy="2743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 Reference Sans Serif"/>
              </a:rPr>
              <a:t> </a:t>
            </a:r>
            <a:r>
              <a:rPr b="0" lang="en-US" sz="1800" spc="-1" strike="noStrike">
                <a:solidFill>
                  <a:srgbClr val="ffffff"/>
                </a:solidFill>
                <a:latin typeface="MS Reference Sans Serif"/>
              </a:rPr>
              <a:t>Ch</a:t>
            </a:r>
            <a:r>
              <a:rPr b="0" lang="en-US" sz="1800" spc="-1" strike="noStrike">
                <a:solidFill>
                  <a:srgbClr val="ffffff"/>
                </a:solidFill>
                <a:latin typeface="Tahoma"/>
                <a:ea typeface="Arial"/>
              </a:rPr>
              <a:t>ère Summer,</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J’aime Guadeloupe! Il fait très chaud et le soleil brille. L’h</a:t>
            </a:r>
            <a:r>
              <a:rPr b="0" lang="en-US" sz="1800" spc="-1" strike="noStrike">
                <a:solidFill>
                  <a:srgbClr val="ffffff"/>
                </a:solidFill>
                <a:latin typeface="Tahoma"/>
                <a:ea typeface="Tahoma"/>
              </a:rPr>
              <a:t>Ôtel Ti’Figues est pres de la plage calle</a:t>
            </a:r>
            <a:r>
              <a:rPr b="0" lang="en-US" sz="1800" spc="-1" strike="noStrike">
                <a:solidFill>
                  <a:srgbClr val="ffffff"/>
                </a:solidFill>
                <a:latin typeface="Tahoma"/>
                <a:ea typeface="Arial"/>
              </a:rPr>
              <a:t>è. Aujourd’hui, j’ai fait de scooter de mer. J’ai vu la Dauphin! Aussi, j’ai vu le Parc Nationale Guadeloupe. Il a ètè beau et j’ai vu les animaux. Je n’ai jamais vu Bourg des saintes. J’ai d</a:t>
            </a:r>
            <a:r>
              <a:rPr b="0" lang="en-US" sz="1800" spc="-1" strike="noStrike">
                <a:solidFill>
                  <a:srgbClr val="ffffff"/>
                </a:solidFill>
                <a:latin typeface="Tahoma"/>
                <a:ea typeface="Tahoma"/>
              </a:rPr>
              <a:t>în</a:t>
            </a:r>
            <a:r>
              <a:rPr b="0" lang="en-US" sz="1800" spc="-1" strike="noStrike">
                <a:solidFill>
                  <a:srgbClr val="ffffff"/>
                </a:solidFill>
                <a:latin typeface="Tahoma"/>
                <a:ea typeface="Arial"/>
              </a:rPr>
              <a:t>è a L”Hibsus. Ils servent la cuisine fran</a:t>
            </a:r>
            <a:r>
              <a:rPr b="0" lang="en-US" sz="1800" spc="-1" strike="noStrike">
                <a:solidFill>
                  <a:srgbClr val="ffffff"/>
                </a:solidFill>
                <a:latin typeface="Tahoma"/>
                <a:ea typeface="Tahoma"/>
              </a:rPr>
              <a:t>çaise. J’ai vu lexi, mais je n’ai jamais vu Becca. </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 Bientôt!</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Dalia&lt;3</a:t>
            </a:r>
            <a:endParaRPr b="0" lang="en-US" sz="1800" spc="-1" strike="noStrike">
              <a:solidFill>
                <a:srgbClr val="ffffff"/>
              </a:solidFill>
              <a:latin typeface="Tahoma"/>
            </a:endParaRPr>
          </a:p>
        </p:txBody>
      </p:sp>
      <p:pic>
        <p:nvPicPr>
          <p:cNvPr id="86" name="Picture 5" descr="Hibiscus_Flower_by_KatieKins1"/>
          <p:cNvPicPr/>
          <p:nvPr/>
        </p:nvPicPr>
        <p:blipFill>
          <a:blip r:embed="rId1"/>
          <a:stretch/>
        </p:blipFill>
        <p:spPr>
          <a:xfrm>
            <a:off x="2666880" y="0"/>
            <a:ext cx="4381560" cy="32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880" y="380880"/>
            <a:ext cx="4267440" cy="36576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 Reference Sans Serif"/>
              </a:rPr>
              <a:t>Ch</a:t>
            </a:r>
            <a:r>
              <a:rPr b="0" lang="en-US" sz="1800" spc="-1" strike="noStrike">
                <a:solidFill>
                  <a:srgbClr val="ffffff"/>
                </a:solidFill>
                <a:latin typeface="Tahoma"/>
                <a:ea typeface="Arial"/>
              </a:rPr>
              <a:t>ere pap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uadeloupe est exeptional! La plague est remplie aujourd’hui! Je suis alleè en kyak. J’ai vu le poisson! Pour dejuner, j’ai mangè </a:t>
            </a:r>
            <a:r>
              <a:rPr b="0" lang="en-US" sz="1800" spc="-1" strike="noStrike">
                <a:solidFill>
                  <a:srgbClr val="ffffff"/>
                </a:solidFill>
                <a:latin typeface="Tahoma"/>
                <a:ea typeface="Tahoma"/>
              </a:rPr>
              <a:t>á la Cha Cha caf</a:t>
            </a:r>
            <a:r>
              <a:rPr b="0" lang="en-US" sz="1800" spc="-1" strike="noStrike">
                <a:solidFill>
                  <a:srgbClr val="ffffff"/>
                </a:solidFill>
                <a:latin typeface="Tahoma"/>
                <a:ea typeface="Arial"/>
              </a:rPr>
              <a:t>è. J’ai vu Le Saintes aujurd’hui. Je n’ai jamais vu UNECSO Reserve de la biosphère.j’ai vu Spencer a la plage. Je n’ai jamais vu Bobby.</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 La Prochan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lt;3</a:t>
            </a:r>
            <a:endParaRPr b="0" lang="en-US" sz="1800" spc="-1" strike="noStrike">
              <a:solidFill>
                <a:srgbClr val="ffffff"/>
              </a:solidFill>
              <a:latin typeface="Tahoma"/>
            </a:endParaRPr>
          </a:p>
        </p:txBody>
      </p:sp>
      <p:pic>
        <p:nvPicPr>
          <p:cNvPr id="88" name="Picture 5" descr="sea kayaking the belize barrier reef">
            <a:hlinkClick r:id="rId1"/>
          </p:cNvPr>
          <p:cNvPicPr/>
          <p:nvPr/>
        </p:nvPicPr>
        <p:blipFill>
          <a:blip r:embed="rId2"/>
          <a:stretch/>
        </p:blipFill>
        <p:spPr>
          <a:xfrm>
            <a:off x="4648320" y="457200"/>
            <a:ext cx="3895560" cy="52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3733920"/>
            <a:ext cx="8229600" cy="25905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t>
            </a:r>
            <a:r>
              <a:rPr b="0" lang="en-US" sz="1800" spc="-1" strike="noStrike">
                <a:solidFill>
                  <a:srgbClr val="ffffff"/>
                </a:solidFill>
                <a:latin typeface="Tahoma"/>
                <a:ea typeface="Arial"/>
              </a:rPr>
              <a:t>ères Amies,</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 Guadeloupe il fait très chaud aujourd’hui! J’ai pris un bain de soleil et nagè a la mer. Aussi, je visite la vallèe de l’ancienne carribes. J’ai vu les illustrations, mais je n’ai jamais vu les instruments. Pour d</a:t>
            </a:r>
            <a:r>
              <a:rPr b="0" lang="en-US" sz="1800" spc="-1" strike="noStrike">
                <a:solidFill>
                  <a:srgbClr val="ffffff"/>
                </a:solidFill>
                <a:latin typeface="Tahoma"/>
                <a:ea typeface="Tahoma"/>
              </a:rPr>
              <a:t>îner, j’ai mang</a:t>
            </a:r>
            <a:r>
              <a:rPr b="0" lang="en-US" sz="1800" spc="-1" strike="noStrike">
                <a:solidFill>
                  <a:srgbClr val="ffffff"/>
                </a:solidFill>
                <a:latin typeface="Tahoma"/>
                <a:ea typeface="Arial"/>
              </a:rPr>
              <a:t>è a “Les Oiseaux”. J’ai mangè le poisson. Je n’ai jamais allè la planche voile. J’ai vu bobby, mais je n’ai vu sarah a la piscin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Bonnè Journè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lt;3</a:t>
            </a:r>
            <a:endParaRPr b="0" lang="en-US" sz="1800" spc="-1" strike="noStrike">
              <a:solidFill>
                <a:srgbClr val="ffffff"/>
              </a:solidFill>
              <a:latin typeface="Tahoma"/>
            </a:endParaRPr>
          </a:p>
        </p:txBody>
      </p:sp>
      <p:sp>
        <p:nvSpPr>
          <p:cNvPr id="90" name="AutoShape 5"/>
          <p:cNvSpPr/>
          <p:nvPr/>
        </p:nvSpPr>
        <p:spPr>
          <a:xfrm>
            <a:off x="3309840" y="2523960"/>
            <a:ext cx="2524320" cy="181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91" name="Picture 7" descr="Shark+Midwife"/>
          <p:cNvPicPr/>
          <p:nvPr/>
        </p:nvPicPr>
        <p:blipFill>
          <a:blip r:embed="rId1"/>
          <a:stretch/>
        </p:blipFill>
        <p:spPr>
          <a:xfrm>
            <a:off x="2057400" y="152280"/>
            <a:ext cx="4952880" cy="355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28195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
            </a:r>
            <a:r>
              <a:rPr b="0" lang="en-US" sz="1800" spc="-1" strike="noStrike">
                <a:solidFill>
                  <a:srgbClr val="ffffff"/>
                </a:solidFill>
                <a:latin typeface="Tahoma"/>
                <a:ea typeface="Arial"/>
              </a:rPr>
              <a:t>ère Mama,</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ujourd’hui c’est ma derniere journèe! J’ai reccomandè l’h</a:t>
            </a:r>
            <a:r>
              <a:rPr b="0" lang="en-US" sz="1800" spc="-1" strike="noStrike">
                <a:solidFill>
                  <a:srgbClr val="ffffff"/>
                </a:solidFill>
                <a:latin typeface="Tahoma"/>
                <a:ea typeface="Tahoma"/>
              </a:rPr>
              <a:t>ôtel Ti’Figues! Guadeloupe est ma favorite. Aujourd’hui je fait du shopping. J’achet</a:t>
            </a:r>
            <a:r>
              <a:rPr b="0" lang="en-US" sz="1800" spc="-1" strike="noStrike">
                <a:solidFill>
                  <a:srgbClr val="ffffff"/>
                </a:solidFill>
                <a:latin typeface="Tahoma"/>
                <a:ea typeface="Arial"/>
              </a:rPr>
              <a:t>è des bijoux locaux. Il est beau! J’ai vu becca, mais je n’ai jamais vu Lexi. Aussi, je suis faisons plongeè sous-marin. Nous avons vu un requin et de calamar. Il est très interesaunt. Je n’ai jamais vu le poulpe. Nous avons d</a:t>
            </a:r>
            <a:r>
              <a:rPr b="0" lang="en-US" sz="1800" spc="-1" strike="noStrike">
                <a:solidFill>
                  <a:srgbClr val="ffffff"/>
                </a:solidFill>
                <a:latin typeface="Tahoma"/>
                <a:ea typeface="Tahoma"/>
              </a:rPr>
              <a:t>îner au “le Genois”. J’ai mang</a:t>
            </a:r>
            <a:r>
              <a:rPr b="0" lang="en-US" sz="1800" spc="-1" strike="noStrike">
                <a:solidFill>
                  <a:srgbClr val="ffffff"/>
                </a:solidFill>
                <a:latin typeface="Tahoma"/>
                <a:ea typeface="Arial"/>
              </a:rPr>
              <a:t>è steak! Deliceux!</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ros Bises,</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a:t>
            </a:r>
            <a:endParaRPr b="0" lang="en-US" sz="1800" spc="-1" strike="noStrike">
              <a:solidFill>
                <a:srgbClr val="ffffff"/>
              </a:solidFill>
              <a:latin typeface="Tahoma"/>
            </a:endParaRPr>
          </a:p>
        </p:txBody>
      </p:sp>
      <p:sp>
        <p:nvSpPr>
          <p:cNvPr id="93" name="AutoShape 7"/>
          <p:cNvSpPr/>
          <p:nvPr/>
        </p:nvSpPr>
        <p:spPr>
          <a:xfrm>
            <a:off x="3290760" y="2533680"/>
            <a:ext cx="2562480" cy="179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AutoShape 9"/>
          <p:cNvSpPr/>
          <p:nvPr/>
        </p:nvSpPr>
        <p:spPr>
          <a:xfrm>
            <a:off x="3290760" y="2533680"/>
            <a:ext cx="2562480" cy="179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AutoShape 11"/>
          <p:cNvSpPr/>
          <p:nvPr/>
        </p:nvSpPr>
        <p:spPr>
          <a:xfrm>
            <a:off x="3610080" y="2757600"/>
            <a:ext cx="1923840" cy="134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AutoShape 13"/>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97" name="Picture 15" descr="experience-costa-rica-scuba-diving"/>
          <p:cNvPicPr/>
          <p:nvPr/>
        </p:nvPicPr>
        <p:blipFill>
          <a:blip r:embed="rId1"/>
          <a:stretch/>
        </p:blipFill>
        <p:spPr>
          <a:xfrm>
            <a:off x="2819520" y="3048120"/>
            <a:ext cx="350496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56:41Z</dcterms:created>
  <dc:creator>marmashdal</dc:creator>
  <dc:description/>
  <dc:language>en-US</dc:language>
  <cp:lastModifiedBy>Windows User</cp:lastModifiedBy>
  <dcterms:modified xsi:type="dcterms:W3CDTF">2012-02-06T23:44:41Z</dcterms:modified>
  <cp:revision>10</cp:revision>
  <dc:subject/>
  <dc:title>Slide 1</dc:title>
</cp:coreProperties>
</file>